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839-6AE8-47B9-976B-3C780BE78DBA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6A73-F14A-40E0-9CAA-903599F3222D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DFD-EC5C-4CEE-AEEB-D587FF3B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136-6014-4843-BC03-3557FCBD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22A-7118-47B7-B90D-1B4048E6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471-8D44-496D-AF6E-76665D99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605F-5CAD-4AF8-8E46-97EF4648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614A-A5BE-4F47-AC34-676F32BE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0E46-7FA9-4102-AFD4-DC4EFAAD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E2A9-43F3-443E-A4F5-0C9235DE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3A64-5AB6-4282-8446-EE2047D1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3929-82AB-4BBF-8B88-FF81A8B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71E2-EC0A-41F5-8C12-024D383A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FDC-D665-4670-8CC9-60AF50B7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1C06-0321-4BE2-B63E-03E1B286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1402-A18E-44C4-8D80-444E0D2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4C3D-F7F1-430B-96D6-376CA88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0EE6-A6C6-4F88-93C7-F93A0728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F674-5163-4287-A27F-A3776705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55BC-5FC2-4BF3-B2A9-0C993EEF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0A33-C8E0-42AC-B9B1-D235129E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CFE82-D350-48F6-8D56-A858203C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09E7-0786-4EF9-8715-7E81E5FC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6C02-469C-4AF8-8E36-99342DE2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3486-B1EA-4165-9C17-18F03649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F684-2EC6-41A3-B4CB-451DB06A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86AC-9513-4925-8800-E4586585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9FF6-BA63-42A7-B6F8-B0A6BCDB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8156-18DA-4332-A650-88547137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A11C-C5C6-43FB-AFAD-AEEEAB57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9CAA8-9825-443E-A753-12EA2C0D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42E2-C148-4B94-9D01-22601322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CFF5-960E-48E9-8FB7-2316831B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4C8FF-13C2-47FF-8857-E605094B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F0C71-E476-43AF-BD90-0E4AC08E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CC3-EFE6-4CD0-B889-D18947D8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1D74A-3F4B-433A-92AB-C8514883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714D-4EA7-4FE4-A38A-606CC636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CDF43-DC19-49E3-B7EA-E4EC3C61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1B644-DB43-4CEF-B407-CF073D6E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F1EFD-3AF5-473B-A14D-6C7B8F4B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74BC9-3A2A-4093-8E1B-839B4068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F286-C80A-4D15-963B-7A59D078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384DD-FFE7-4163-8A58-3E0B8E2A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18ABC-1DB0-406A-AC6D-2DF472C7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575C7-5973-4234-B178-B055C7D2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20B-CC41-4C7F-BE0F-270F6AE1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3B075-DF61-4A64-BD7D-706B7C51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DAE88-ACE7-4B22-A3A8-3BBE7719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9FA4C-0F3D-47B2-9A20-81E457FF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51C0-F9C3-4E80-A8C8-116229E0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F3AEF-BB96-4B70-997A-A7CAC4EE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C60A-8E7D-452D-9819-D316C5E3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C9F6-C2AF-4E11-8DFE-F6223327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60210-1527-4827-AA8C-0FC5AF9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C5378-1FF2-4851-9D33-8FA66183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4FFDC-DCE6-483F-A7EC-79B52B07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34E-084A-4BCA-B8B3-341DF56B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89093-29D7-4E56-9E56-A66BECA6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589A8-B4FB-4345-8ECF-C32F5BC2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589B3-DC73-4E84-B3CE-A78D082B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7ED93-1E04-475F-B5A3-D5F9B7B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1B8F8-5E1D-4827-AC2D-60B94662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1623C-9B7E-4267-B6F0-E850012B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593E3-16B5-4BC5-9DCB-F1997F04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2B52A-11BB-41C4-9BA9-BED012E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8A637-0D3E-4559-8157-E439D337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1CC23-6071-4EE7-A5C1-51DA9E99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6A9A-F194-4A8F-9ED4-4BD1D604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6ACE2-A53E-4196-BBA2-BEF8D996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B01F-6F65-40BB-8ADA-056EA420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5C0F3-C463-4AA6-B44D-CD24EED8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F3BB2-A708-4CF9-A6CA-3E0357F8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EF5C8-9309-4D8C-BFAA-5AEC3048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FA7E5-FEED-476F-9EFE-CFDB3151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F8A1F-D4BE-4CC6-8E0A-C2B3E853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E57F-AA84-42FE-BDEC-3EFC524D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85E18-5EE2-4EC9-B55F-7B1DAF6E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8954D-6DE8-4470-9E49-0FE2B4D6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CB2-C792-4575-B2C5-753F8247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E80E5-860A-4700-8DB8-EA59F14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470C1-7A8B-42E5-AA62-5D245326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61C63-13ED-4DFB-B31E-8F453D7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475C5-36BC-4B84-9A2E-C3ECF4CD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A5EB4-8743-4155-B8DA-ED8CBA6D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A70AD-476A-4CBB-8069-699EDF5A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3B8E8-FD18-4B1C-9AAC-5F5A55A2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A6D4-8638-49D9-BEF0-EF4EF20E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A9E29-BCA1-42F5-AC6E-65284D07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BAEEE-AAFB-4E67-81FF-6EC4A10B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54A-441F-4B5C-9AED-2206ACA5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C31E6-F3AA-4D04-85E0-4FACFE89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725A8-09C5-4CE6-80DA-7547655A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ECA57-982C-4C7D-B452-3014E562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167B4-A0B9-4D1A-B83B-A2DB710F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19D11-C325-42F1-93D1-FD9D23D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F2210-8F99-45F2-A460-6C8BB419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92683-8C17-41D2-ADCA-8D7DF5E7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1294-8738-43DD-9D0C-EE3147FB7692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7D15-A546-43C0-9487-44A65E227D3C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4529-E79C-47CA-B614-79456EE691BF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1FEA-EC59-4F28-907C-0AA45C4E21BC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C557-D4DE-4C77-BA5C-91E7721A23AA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34E4-0B30-48DD-881E-8E581E14DE18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AB40-0829-4EF8-BEB9-4036312F17AC}" type="slidenum"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501B-4BF0-4708-9AF6-E7252DB28D54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676160" y="3352320"/>
            <a:ext cx="6019560" cy="1600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5" descr="C:\Documents and Settings\FRCG\Desktop\brosura.jpg"/>
          <p:cNvPicPr/>
          <p:nvPr/>
        </p:nvPicPr>
        <p:blipFill>
          <a:blip r:embed="rId2"/>
          <a:srcRect l="63946" t="17688" r="12339" b="61227"/>
          <a:stretch/>
        </p:blipFill>
        <p:spPr>
          <a:xfrm>
            <a:off x="2133720" y="1828800"/>
            <a:ext cx="5029200" cy="1857240"/>
          </a:xfrm>
          <a:prstGeom prst="rect">
            <a:avLst/>
          </a:prstGeom>
          <a:ln w="0">
            <a:noFill/>
          </a:ln>
        </p:spPr>
      </p:pic>
      <p:sp>
        <p:nvSpPr>
          <p:cNvPr id="380" name="Dreptunghi 9"/>
          <p:cNvSpPr/>
          <p:nvPr/>
        </p:nvSpPr>
        <p:spPr>
          <a:xfrm flipV="1" rot="10800000">
            <a:off x="2285640" y="4051800"/>
            <a:ext cx="4724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0" y="4052880"/>
            <a:ext cx="914400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Arial Black"/>
              </a:rPr>
              <a:t>PARTENER DE </a:t>
            </a:r>
            <a:r>
              <a:rPr b="0" lang="ro-RO" sz="1400" spc="-1" strike="noStrike">
                <a:solidFill>
                  <a:srgbClr val="464646"/>
                </a:solidFill>
                <a:latin typeface="Arial Black"/>
              </a:rPr>
              <a:t>Î</a:t>
            </a:r>
            <a:r>
              <a:rPr b="0" lang="en-US" sz="1400" spc="-1" strike="noStrike">
                <a:solidFill>
                  <a:srgbClr val="464646"/>
                </a:solidFill>
                <a:latin typeface="Arial Black"/>
              </a:rPr>
              <a:t>NCREDER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Arial Black"/>
              </a:rPr>
              <a:t>PENTRU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464646"/>
                </a:solidFill>
                <a:latin typeface="Arial Black"/>
              </a:rPr>
              <a:t>ÎNTREPRINDERILE </a:t>
            </a:r>
            <a:r>
              <a:rPr b="0" lang="en-US" sz="1400" spc="-1" strike="noStrike">
                <a:solidFill>
                  <a:srgbClr val="464646"/>
                </a:solidFill>
                <a:latin typeface="Arial Black"/>
              </a:rPr>
              <a:t>M</a:t>
            </a:r>
            <a:r>
              <a:rPr b="0" lang="ro-RO" sz="1400" spc="-1" strike="noStrike">
                <a:solidFill>
                  <a:srgbClr val="464646"/>
                </a:solidFill>
                <a:latin typeface="Arial Black"/>
              </a:rPr>
              <a:t>ICI ŞI </a:t>
            </a:r>
            <a:r>
              <a:rPr b="0" lang="en-US" sz="1400" spc="-1" strike="noStrike">
                <a:solidFill>
                  <a:srgbClr val="464646"/>
                </a:solidFill>
                <a:latin typeface="Arial Black"/>
              </a:rPr>
              <a:t>M</a:t>
            </a:r>
            <a:r>
              <a:rPr b="0" lang="ro-RO" sz="1400" spc="-1" strike="noStrike">
                <a:solidFill>
                  <a:srgbClr val="464646"/>
                </a:solidFill>
                <a:latin typeface="Arial Black"/>
              </a:rPr>
              <a:t>IJLOCII</a:t>
            </a:r>
            <a:r>
              <a:rPr b="0" lang="en-US" sz="1400" spc="-1" strike="noStrike">
                <a:solidFill>
                  <a:srgbClr val="464646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464646"/>
                </a:solidFill>
                <a:latin typeface="Arial Black"/>
              </a:rPr>
              <a:t>Ş</a:t>
            </a:r>
            <a:r>
              <a:rPr b="0" lang="en-US" sz="1400" spc="-1" strike="noStrike">
                <a:solidFill>
                  <a:srgbClr val="464646"/>
                </a:solidFill>
                <a:latin typeface="Arial Black"/>
              </a:rPr>
              <a:t>I MEDIUL FINANCIAR </a:t>
            </a:r>
            <a:r>
              <a:rPr b="0" lang="ro-RO" sz="1400" spc="-1" strike="noStrike">
                <a:solidFill>
                  <a:srgbClr val="464646"/>
                </a:solidFill>
                <a:latin typeface="Arial Black"/>
              </a:rPr>
              <a:t>– BANCAR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42920" y="1428840"/>
            <a:ext cx="8786880" cy="42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Cadrul normativ de referin</a:t>
            </a:r>
            <a:r>
              <a:rPr b="1" lang="ro-RO" sz="2800" spc="-1" strike="noStrike">
                <a:solidFill>
                  <a:srgbClr val="464646"/>
                </a:solidFill>
                <a:latin typeface="Lucida Sans Unicode"/>
              </a:rPr>
              <a:t>ţ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464646"/>
                </a:solidFill>
                <a:latin typeface="Lucida Sans Unicode"/>
              </a:rPr>
              <a:t>Conven</a:t>
            </a:r>
            <a:r>
              <a:rPr b="1" i="1" lang="ro-RO" sz="2500" spc="-1" strike="noStrike">
                <a:solidFill>
                  <a:srgbClr val="464646"/>
                </a:solidFill>
                <a:latin typeface="Lucida Sans Unicode"/>
              </a:rPr>
              <a:t>ţ</a:t>
            </a:r>
            <a:r>
              <a:rPr b="1" i="1" lang="en-US" sz="2500" spc="-1" strike="noStrike">
                <a:solidFill>
                  <a:srgbClr val="464646"/>
                </a:solidFill>
                <a:latin typeface="Lucida Sans Unicode"/>
              </a:rPr>
              <a:t>ia de manda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ntre FRC 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 fondurile de garantare func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oneaz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regula mandatului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instituit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printr-o Conven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e-cadru de contragaranta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u fost semnate Conven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i de contragarantare cu cinci fonduri de garantare 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 anume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73200" indent="-27324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Fondul Naţional  de Garantare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a Creditelor pentru Întreprinderile Mici şi Mijloci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73200" indent="-27324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o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ndul Local De Garantare Focşani -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Filială FNGCIMM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73200" indent="-27324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Fondul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Local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 De Garantare Sfântu Gheorghe -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Filială FNGCIMM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73200" indent="-27324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Fondul Român De Garantare A Creditelor pentru Întreprinzătorii Privaţi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73200" indent="-27324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o-RO" sz="1400" spc="-1" strike="noStrike">
                <a:solidFill>
                  <a:srgbClr val="000000"/>
                </a:solidFill>
                <a:latin typeface="Lucida Sans Unicode"/>
              </a:rPr>
              <a:t>Fondul De Garantare A Creditului Rura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Picture 4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4"/>
          <p:cNvSpPr/>
          <p:nvPr/>
        </p:nvSpPr>
        <p:spPr>
          <a:xfrm>
            <a:off x="0" y="142884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Lucida Sans Unicode"/>
              </a:rPr>
              <a:t>NORM</a:t>
            </a:r>
            <a:r>
              <a:rPr b="1" lang="ro-RO" sz="1000" spc="-1" strike="noStrike" u="sng">
                <a:solidFill>
                  <a:srgbClr val="000000"/>
                </a:solidFill>
                <a:uFillTx/>
                <a:latin typeface="Lucida Sans Unicode"/>
              </a:rPr>
              <a:t>ELE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Lucida Sans Unicode"/>
              </a:rPr>
              <a:t> nr. 1</a:t>
            </a:r>
            <a:r>
              <a:rPr b="1" lang="ro-RO" sz="1000" spc="-1" strike="noStrike" u="sng">
                <a:solidFill>
                  <a:srgbClr val="000000"/>
                </a:solidFill>
                <a:uFillTx/>
                <a:latin typeface="Lucida Sans Unicode"/>
              </a:rPr>
              <a:t> şi nr. 2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Lucida Sans Unicode"/>
              </a:rPr>
              <a:t>*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Lucida Sans Unicode"/>
              </a:rPr>
              <a:t>/2010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privind contragarantarea garan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ilor aferente finan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ţă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rilor contractate de IMM de la b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nci 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 institu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i financiare nebancare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respectiv, 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contragarantarea 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garanţiilor 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acordate pentru sprijinirea 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nfiin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ţă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rii 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i dezvolt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rii de IMM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Lucida Sans Unicode"/>
              </a:rPr>
              <a:t>(start-up)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AutoShape 9"/>
          <p:cNvSpPr/>
          <p:nvPr/>
        </p:nvSpPr>
        <p:spPr>
          <a:xfrm>
            <a:off x="285840" y="3500280"/>
            <a:ext cx="1908000" cy="1908360"/>
          </a:xfrm>
          <a:custGeom>
            <a:avLst/>
            <a:gdLst>
              <a:gd name="textAreaLeft" fmla="*/ 92880 w 1908000"/>
              <a:gd name="textAreaRight" fmla="*/ 1815120 w 1908000"/>
              <a:gd name="textAreaTop" fmla="*/ 92880 h 1908360"/>
              <a:gd name="textAreaBottom" fmla="*/ 1815480 h 1908360"/>
            </a:gdLst>
            <a:ahLst/>
            <a:rect l="textAreaLeft" t="textAreaTop" r="textAreaRight" b="textAreaBottom"/>
            <a:pathLst>
              <a:path w="21600" h="21604">
                <a:moveTo>
                  <a:pt x="3600" y="0"/>
                </a:moveTo>
                <a:arcTo wR="3600" hR="3600" stAng="16200000" swAng="-5400000"/>
                <a:lnTo>
                  <a:pt x="0" y="18004"/>
                </a:lnTo>
                <a:arcTo wR="3600" hR="3600" stAng="10800000" swAng="-5400000"/>
                <a:lnTo>
                  <a:pt x="18000" y="216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 u="sng">
                <a:solidFill>
                  <a:srgbClr val="000000"/>
                </a:solidFill>
                <a:uFillTx/>
                <a:latin typeface="Arial"/>
                <a:ea typeface="Cambria"/>
              </a:rPr>
              <a:t>Documentaţia necesară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1. Documentaţia cerută de finanţator, conform normelor acestuia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Cambria"/>
              </a:rPr>
              <a:t>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Declaraţia de încadrare în categoria IMM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Cambria"/>
              </a:rPr>
              <a:t>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Declaraţia pe proprie răspundere a IMM că nu este “î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n dificultate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”;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Cambria"/>
              </a:rPr>
              <a:t>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Bilanţurile aferente ultimelor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Cambria"/>
              </a:rPr>
              <a:t>două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 exerciţii financiare încheiate.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2643120" y="3500280"/>
            <a:ext cx="1908360" cy="19083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mbria"/>
              </a:rPr>
              <a:t>1. Primeşte cererea de finanţare 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mbria"/>
              </a:rPr>
              <a:t>2. Aprobă finanţarea cu garanţia din partea Fondurilor de Garantare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mbria"/>
              </a:rPr>
              <a:t>3.Transmite cererea de garantare către Fondurile de Garantare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4786200" y="3500280"/>
            <a:ext cx="1908360" cy="1908360"/>
          </a:xfrm>
          <a:prstGeom prst="roundRect">
            <a:avLst>
              <a:gd name="adj" fmla="val 16667"/>
            </a:avLst>
          </a:prstGeom>
          <a:solidFill>
            <a:srgbClr val="ec767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Cambria"/>
              </a:rPr>
              <a:t>1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mbria"/>
              </a:rPr>
              <a:t>Primeşte solicitarea de garantare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Cambria"/>
              </a:rPr>
              <a:t>2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mbria"/>
              </a:rPr>
              <a:t>Aprobă garanţia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Cambria"/>
              </a:rPr>
              <a:t>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mbria"/>
              </a:rPr>
              <a:t>Transmite cererea de contragarantare către Fondul de Contragarantare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  <a:ea typeface="Cambria"/>
              </a:rPr>
              <a:t>4. </a:t>
            </a:r>
            <a:r>
              <a:rPr b="1" lang="en-GB" sz="900" spc="-1" strike="noStrike" u="sng">
                <a:solidFill>
                  <a:srgbClr val="000000"/>
                </a:solidFill>
                <a:uFillTx/>
                <a:latin typeface="Arial"/>
                <a:ea typeface="Cambria"/>
              </a:rPr>
              <a:t>Comision de garantare redus constituind </a:t>
            </a:r>
            <a:r>
              <a:rPr b="1" i="1" lang="en-GB" sz="900" spc="-1" strike="noStrike" u="sng">
                <a:solidFill>
                  <a:srgbClr val="000000"/>
                </a:solidFill>
                <a:uFillTx/>
                <a:latin typeface="Arial"/>
                <a:ea typeface="Cambria"/>
              </a:rPr>
              <a:t>ajutor de minimis</a:t>
            </a:r>
            <a:r>
              <a:rPr b="1" lang="en-GB" sz="900" spc="-1" strike="noStrike" u="sng">
                <a:solidFill>
                  <a:srgbClr val="000000"/>
                </a:solidFill>
                <a:uFillTx/>
                <a:latin typeface="Arial"/>
                <a:ea typeface="Cambria"/>
              </a:rPr>
              <a:t>, urmare contragarantării;</a:t>
            </a: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AutoShape 6"/>
          <p:cNvSpPr/>
          <p:nvPr/>
        </p:nvSpPr>
        <p:spPr>
          <a:xfrm>
            <a:off x="6929280" y="3500280"/>
            <a:ext cx="1908360" cy="1908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Cambria"/>
              </a:rPr>
              <a:t>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Primeşte notificarea cu lista garanţiilor contragarantate propuse spre confirmare</a:t>
            </a:r>
            <a:r>
              <a:rPr b="1" lang="ro-RO" sz="800" spc="-1" strike="noStrike">
                <a:solidFill>
                  <a:srgbClr val="000000"/>
                </a:solidFill>
                <a:latin typeface="Arial"/>
                <a:ea typeface="Cambria"/>
              </a:rPr>
              <a:t>, respectiv solicitarea de contragarantare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Cambria"/>
              </a:rPr>
              <a:t>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Verifică încadrarea IMM şi a garanţiei în condiţiile normei de contragarantare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Cambria"/>
              </a:rPr>
              <a:t>3. Confirmă</a:t>
            </a:r>
            <a:r>
              <a:rPr b="1" lang="ro-RO" sz="800" spc="-1" strike="noStrike">
                <a:solidFill>
                  <a:srgbClr val="000000"/>
                </a:solidFill>
                <a:latin typeface="Arial"/>
                <a:ea typeface="Cambria"/>
              </a:rPr>
              <a:t>, respectiv acordă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  <a:ea typeface="Cambria"/>
              </a:rPr>
              <a:t>contragaranţia 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4. </a:t>
            </a: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mision de garantare redus constituind </a:t>
            </a:r>
            <a:r>
              <a:rPr b="1" i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jutor de minimis</a:t>
            </a:r>
            <a:r>
              <a:rPr b="1" lang="en-GB" sz="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, urmare contragarantării</a:t>
            </a: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1428840" y="5643720"/>
            <a:ext cx="6391080" cy="571320"/>
          </a:xfrm>
          <a:prstGeom prst="leftArrow">
            <a:avLst>
              <a:gd name="adj1" fmla="val 50000"/>
              <a:gd name="adj2" fmla="val 127298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prijină accesul IMM la finanţar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3643200" y="4929120"/>
            <a:ext cx="287280" cy="684360"/>
          </a:xfrm>
          <a:prstGeom prst="downArrow">
            <a:avLst>
              <a:gd name="adj1" fmla="val 50000"/>
              <a:gd name="adj2" fmla="val 55552"/>
            </a:avLst>
          </a:prstGeom>
          <a:solidFill>
            <a:srgbClr val="ec767c"/>
          </a:solidFill>
          <a:ln w="0">
            <a:noFill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AutoShape 3" descr=""/>
          <p:cNvPicPr/>
          <p:nvPr/>
        </p:nvPicPr>
        <p:blipFill>
          <a:blip r:embed="rId2"/>
          <a:stretch/>
        </p:blipFill>
        <p:spPr>
          <a:xfrm>
            <a:off x="5894280" y="4979880"/>
            <a:ext cx="341280" cy="682560"/>
          </a:xfrm>
          <a:prstGeom prst="rect">
            <a:avLst/>
          </a:prstGeom>
          <a:ln w="0">
            <a:noFill/>
          </a:ln>
        </p:spPr>
      </p:pic>
      <p:grpSp>
        <p:nvGrpSpPr>
          <p:cNvPr id="410" name="AutoShape 2"/>
          <p:cNvGrpSpPr/>
          <p:nvPr/>
        </p:nvGrpSpPr>
        <p:grpSpPr>
          <a:xfrm>
            <a:off x="7974000" y="5187960"/>
            <a:ext cx="773280" cy="852480"/>
            <a:chOff x="7974000" y="5187960"/>
            <a:chExt cx="773280" cy="852480"/>
          </a:xfrm>
        </p:grpSpPr>
        <p:pic>
          <p:nvPicPr>
            <p:cNvPr id="411" name="AutoShape 2" descr=""/>
            <p:cNvPicPr/>
            <p:nvPr/>
          </p:nvPicPr>
          <p:blipFill>
            <a:blip r:embed="rId3"/>
            <a:stretch/>
          </p:blipFill>
          <p:spPr>
            <a:xfrm>
              <a:off x="7974000" y="5187960"/>
              <a:ext cx="7732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 rot="10800000">
              <a:off x="8113680" y="5667480"/>
              <a:ext cx="1936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13" name="Text Box 18"/>
          <p:cNvSpPr/>
          <p:nvPr/>
        </p:nvSpPr>
        <p:spPr>
          <a:xfrm>
            <a:off x="714240" y="2143080"/>
            <a:ext cx="720720" cy="785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0" tIns="281880" bIns="425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Text Box 17"/>
          <p:cNvSpPr/>
          <p:nvPr/>
        </p:nvSpPr>
        <p:spPr>
          <a:xfrm>
            <a:off x="2571840" y="2214720"/>
            <a:ext cx="1152360" cy="828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34000" rIns="234000" tIns="298800" bIns="29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nanţator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143680" y="2214720"/>
            <a:ext cx="1223640" cy="792000"/>
          </a:xfrm>
          <a:prstGeom prst="rect">
            <a:avLst/>
          </a:prstGeom>
          <a:solidFill>
            <a:srgbClr val="ec7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d de Garantar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acţionează ca mandatar al FRC)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AutoShape 15"/>
          <p:cNvSpPr/>
          <p:nvPr/>
        </p:nvSpPr>
        <p:spPr>
          <a:xfrm>
            <a:off x="1500120" y="2214720"/>
            <a:ext cx="1028880" cy="900000"/>
          </a:xfrm>
          <a:prstGeom prst="rightArrow">
            <a:avLst>
              <a:gd name="adj1" fmla="val 50000"/>
              <a:gd name="adj2" fmla="val 315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AutoShape 14"/>
          <p:cNvSpPr/>
          <p:nvPr/>
        </p:nvSpPr>
        <p:spPr>
          <a:xfrm>
            <a:off x="3786120" y="2143080"/>
            <a:ext cx="1116000" cy="971640"/>
          </a:xfrm>
          <a:prstGeom prst="rightArrow">
            <a:avLst>
              <a:gd name="adj1" fmla="val 50000"/>
              <a:gd name="adj2" fmla="val 36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1571760" y="2500200"/>
            <a:ext cx="84744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ererea de finanţar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3857760" y="2428920"/>
            <a:ext cx="8571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ererea de garantar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7500960" y="2071800"/>
            <a:ext cx="1071720" cy="10713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0" bIns="154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d de Contragarantar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FRC)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21" name="AutoShape 1"/>
          <p:cNvGrpSpPr/>
          <p:nvPr/>
        </p:nvGrpSpPr>
        <p:grpSpPr>
          <a:xfrm>
            <a:off x="6407280" y="4973760"/>
            <a:ext cx="695160" cy="280800"/>
            <a:chOff x="6407280" y="4973760"/>
            <a:chExt cx="695160" cy="280800"/>
          </a:xfrm>
        </p:grpSpPr>
        <p:pic>
          <p:nvPicPr>
            <p:cNvPr id="422" name="AutoShape 1" descr=""/>
            <p:cNvPicPr/>
            <p:nvPr/>
          </p:nvPicPr>
          <p:blipFill>
            <a:blip r:embed="rId4"/>
            <a:stretch/>
          </p:blipFill>
          <p:spPr>
            <a:xfrm>
              <a:off x="6407280" y="4973760"/>
              <a:ext cx="69516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483240" y="5054760"/>
              <a:ext cx="540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4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Rectangle 2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Rectangle 37"/>
          <p:cNvSpPr/>
          <p:nvPr/>
        </p:nvSpPr>
        <p:spPr>
          <a:xfrm>
            <a:off x="4481640" y="9072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AutoShape 13"/>
          <p:cNvSpPr/>
          <p:nvPr/>
        </p:nvSpPr>
        <p:spPr>
          <a:xfrm>
            <a:off x="6429240" y="2214720"/>
            <a:ext cx="1000440" cy="785520"/>
          </a:xfrm>
          <a:prstGeom prst="rightArrow">
            <a:avLst>
              <a:gd name="adj1" fmla="val 50000"/>
              <a:gd name="adj2" fmla="val 418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0" tIns="144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ificare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"/>
          <p:cNvGraphicFramePr/>
          <p:nvPr/>
        </p:nvGraphicFramePr>
        <p:xfrm>
          <a:off x="457200" y="2133720"/>
          <a:ext cx="8229600" cy="260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696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nd Garant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are contragaran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 acordate p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â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ă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la 31.12.2010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ii R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r.total contrag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anţii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acordate p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â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ă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la 31.12.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ragaran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e medi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ii  R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olum finan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ă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i sus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ute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mii  R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cent mediu de contragarant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653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NGCI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,2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29,8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649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nd Foc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ş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653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ond Sf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Gheorg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1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Î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treprinz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ă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ri priva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653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mii R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,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2,5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chiv. mii E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4,3 lei/eu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5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,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835280" y="5148360"/>
          <a:ext cx="5376600" cy="728640"/>
        </p:xfrm>
        <a:graphic>
          <a:graphicData uri="http://schemas.openxmlformats.org/drawingml/2006/table">
            <a:tbl>
              <a:tblPr/>
              <a:tblGrid>
                <a:gridCol w="2736720"/>
                <a:gridCol w="2639880"/>
              </a:tblGrid>
              <a:tr h="365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</a:t>
                      </a: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IMM SUS</a:t>
                      </a: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U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6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63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UM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Ă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LOCURI DE MUNC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Ă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SUS</a:t>
                      </a:r>
                      <a:r>
                        <a:rPr b="1" lang="ro-RO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U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,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31" name="Dreptunghi 5"/>
          <p:cNvSpPr/>
          <p:nvPr/>
        </p:nvSpPr>
        <p:spPr>
          <a:xfrm>
            <a:off x="468360" y="1500120"/>
            <a:ext cx="81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Distribu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ia pe Fonduri de garantare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1.12.201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3" name=""/>
          <p:cNvGraphicFramePr/>
          <p:nvPr/>
        </p:nvGraphicFramePr>
        <p:xfrm>
          <a:off x="500040" y="2286000"/>
          <a:ext cx="8147160" cy="1857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660760"/>
              </a:tblGrid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toare de activit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aloare contragaran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 (mii R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nderi  valori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61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RICULTUR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Ă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ER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,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6172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STRUC</a:t>
                      </a:r>
                      <a:r>
                        <a:rPr b="1" lang="ro-RO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Ţ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3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USTR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8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62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RVIC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85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2,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434" name="Dreptunghi 3"/>
          <p:cNvSpPr/>
          <p:nvPr/>
        </p:nvSpPr>
        <p:spPr>
          <a:xfrm>
            <a:off x="468360" y="1557360"/>
            <a:ext cx="820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onderea SECTOARELOR DE ACTIVITATE sus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  <a:ea typeface="Calibri"/>
              </a:rPr>
              <a:t>ţ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ute prin activitate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e contragarantare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  <a:ea typeface="Calibri"/>
              </a:rPr>
              <a:t> l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31.12.2010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Chart 2" descr=""/>
          <p:cNvPicPr/>
          <p:nvPr/>
        </p:nvPicPr>
        <p:blipFill>
          <a:blip r:embed="rId2"/>
          <a:stretch/>
        </p:blipFill>
        <p:spPr>
          <a:xfrm>
            <a:off x="536400" y="4145040"/>
            <a:ext cx="80712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  <p:pic>
        <p:nvPicPr>
          <p:cNvPr id="437" name="Substituent conținut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AVANTAJELE</a:t>
            </a:r>
            <a:r>
              <a:rPr b="1" lang="ro-RO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 PENTRU</a:t>
            </a:r>
            <a:r>
              <a:rPr b="1" lang="en-GB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 IM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Facilitarea accesului la fin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r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Diminuarea costurilor de garantar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Cr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erea competitivi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sustenabili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num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rului de IMM fin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t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Efectul de multiplicare prin cr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erea capaci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 de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mprumutar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Cr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erea rentabili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 capitalurilor proprii prin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mbu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t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rea raportului dintre acestea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mprumuturile atras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Me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nerea locurilor de munc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 crearea altora noi de c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re IMM beneficiar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coperirea deficitului sau chiar a lipsei de gar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cu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care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se confruntă 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MM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n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ob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n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rea de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fin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ri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Promovarea antreprenoriatului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toate cele opt regiuni de dezvoltare a Rom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â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niei prin sprijinirea demar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rii activi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/sau dezvol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rii firmelor nou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nfii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t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start-up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mbu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t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rea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capacităţii şi ratei 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bsorb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ei fondurilor structurale de c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re IMM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Picture 6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VANTAJELE </a:t>
            </a:r>
            <a:r>
              <a:rPr b="1" lang="ro-RO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PENTRU</a:t>
            </a:r>
            <a:r>
              <a:rPr b="1" lang="en-GB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FINAN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Ţ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TO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Realizarea unui circuit de fin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re complet –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 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ncreder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 în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sistemul de garantare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, ca urmare, un apetit ridicat de fin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re pentru noi grupuri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n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de beneficiari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  (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start-up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Deschiderea mai mare c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re noi instrumente de fin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r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de tip 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mezanin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equity finance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venture capital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risk capital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Posibilitatea includerii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n circuitul de fin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re a unor noi categorii de fina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atori de genul 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business angels, fonduri de investi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ii cu capital de risc, funda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ii comunitare ale unor mari corpora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ii sau mixte, organiza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ii guvernamentale, institu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ii financiare interna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i="1" lang="en-GB" sz="1700" spc="-1" strike="noStrike">
                <a:solidFill>
                  <a:srgbClr val="000000"/>
                </a:solidFill>
                <a:latin typeface="Lucida Sans Unicode"/>
              </a:rPr>
              <a:t>ionale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, operatori de leasing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Reducerea riscului de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credit 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 cr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erea cali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 portofoliului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Efecte agregate privind politicile referitoare la provi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zioane, potrivit Regulamentului BNR nr. 19/24/2006, cu modificările ulterioar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Lichiditate ridica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a gar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lor contragarantate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n compara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e cu alte tipuri de gar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Efect de multiplicare a fi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anţ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rilor acordat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 IMM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Picture 4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AVANTAJELE 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PENTRU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 FONDURIL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E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Lucida Sans Unicode"/>
              </a:rPr>
              <a:t> DE GARANTA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Cr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erea capaci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 de acordare a gara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lor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a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â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 ca volum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 şi structur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, c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â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 numeric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Produse noi inovativ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 – fonduri de capital de risc, reţea de investitori privaţi de succes </a:t>
            </a:r>
            <a:r>
              <a:rPr b="0" i="1" lang="ro-RO" sz="1700" spc="-1" strike="noStrike">
                <a:solidFill>
                  <a:srgbClr val="000000"/>
                </a:solidFill>
                <a:latin typeface="Lucida Sans Unicode"/>
              </a:rPr>
              <a:t>(business angels),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scheme de microcreditar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mbun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rea cooper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rii cu institu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le financiare (b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nci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 şi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institu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i financiare nebancare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) precum şi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cu autorităţi şi structuri publice centrale specific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mp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ro-RO" sz="17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irea riscului asumat cu FRC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Lucida Sans Unicode"/>
              </a:rPr>
              <a:t>Diminuarea costului cu provizioanele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Content Placeholder 2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249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C:\Users\Semaca\Desktop\serban 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0680"/>
            <a:ext cx="8229600" cy="42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Cine este Fondul Rom</a:t>
            </a:r>
            <a:r>
              <a:rPr b="1" lang="ro-RO" sz="2700" spc="-1" strike="noStrike">
                <a:solidFill>
                  <a:srgbClr val="464646"/>
                </a:solidFill>
                <a:latin typeface="Lucida Sans Unicode"/>
              </a:rPr>
              <a:t>â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464646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C</a:t>
            </a:r>
            <a:r>
              <a:rPr b="1" lang="ro-RO" sz="2700" spc="-1" strike="noStrike">
                <a:solidFill>
                  <a:srgbClr val="464646"/>
                </a:solidFill>
                <a:latin typeface="Lucida Sans Unicode"/>
              </a:rPr>
              <a:t>ontragarantare (FRC)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?</a:t>
            </a:r>
            <a:r>
              <a:rPr b="1" lang="ro-RO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titu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e financiar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specializat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00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cietate comercial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av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d ca ac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onari Statul rom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 prin Ministerul Economiei, Comer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lui 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 Mediului de Afaceri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68%) 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 Funda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a Post-Privatizare (32%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0680"/>
            <a:ext cx="8229600" cy="41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Menirea FR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tragaranteaz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garan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ile acordate de fondurile de garantare pentru creditele 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 alte instrumente de finan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e 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contractat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 IMM de la 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instituţii de credi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 institu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i financiare nebancare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rin </a:t>
            </a:r>
            <a:r>
              <a:rPr b="0" lang="ro-RO" sz="2800" spc="-1" strike="noStrike">
                <a:solidFill>
                  <a:srgbClr val="000000"/>
                </a:solidFill>
                <a:latin typeface="Lucida Sans Unicode"/>
              </a:rPr>
              <a:t>preluarea unei părţi din riscul asumat de fondurile de garanta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0680"/>
            <a:ext cx="8229600" cy="41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FRC contragarantea</a:t>
            </a:r>
            <a:r>
              <a:rPr b="1" lang="ro-RO" sz="2700" spc="-1" strike="noStrike">
                <a:solidFill>
                  <a:srgbClr val="464646"/>
                </a:solidFill>
                <a:latin typeface="Lucida Sans Unicode"/>
              </a:rPr>
              <a:t>ză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aran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il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Lucida Sans Unicode"/>
              </a:rPr>
              <a:t>aferente creditelor şi scrisorilor de garanţie destinat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just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finanţării investiţiilor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just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finanţării ciclului de exploata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just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finan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ţă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ii proiectelor finan</a:t>
            </a: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te din fonduri structural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99760"/>
            <a:ext cx="822960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Mecanismul de acordare a contragaran</a:t>
            </a:r>
            <a:r>
              <a:rPr b="1" lang="ro-RO" sz="2400" spc="-1" strike="noStrike">
                <a:solidFill>
                  <a:srgbClr val="464646"/>
                </a:solidFill>
                <a:latin typeface="Lucida Sans Unicode"/>
              </a:rPr>
              <a:t>ţ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iil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GB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emise de Garant aferente creditelor 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crisorilor de garan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bancar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tinate finan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i investi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lor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)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an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emise de Garant aferente creditelor 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crisorilor de garan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 bancar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tinate finan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ă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i ciclului de exploatare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nie de credit,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operit de cont,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dit pentru stocuri etc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*)</a:t>
            </a:r>
            <a:r>
              <a:rPr b="1" lang="ro-RO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adrarea 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subplafonul de expunere prev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t 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Conven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 de Contragarantare 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î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heiat</a:t>
            </a:r>
            <a:r>
              <a:rPr b="0" lang="ro-RO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 fiecare Garant.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0" name=""/>
          <p:cNvGraphicFramePr/>
          <p:nvPr/>
        </p:nvGraphicFramePr>
        <p:xfrm>
          <a:off x="500040" y="2000160"/>
          <a:ext cx="8215200" cy="2401920"/>
        </p:xfrm>
        <a:graphic>
          <a:graphicData uri="http://schemas.openxmlformats.org/drawingml/2006/table">
            <a:tbl>
              <a:tblPr/>
              <a:tblGrid>
                <a:gridCol w="2054160"/>
                <a:gridCol w="2054160"/>
                <a:gridCol w="2052720"/>
                <a:gridCol w="2054160"/>
              </a:tblGrid>
              <a:tr h="3711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ip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vesti</a:t>
                      </a:r>
                      <a:r>
                        <a:rPr b="1" lang="ro-RO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ţ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pital circulant 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*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84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cente maxime de contragaran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MM care acceseaz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ă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n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ţă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i bancare 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 orice ti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r>
                        <a:rPr b="1" lang="en-GB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***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MM care acceseaz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ă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finan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ţă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i destinate cofinan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ţă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ii proiectelor finan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ţate din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fonduri europe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85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ducerea comisionul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i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de garantare (puncte de baz</a:t>
                      </a: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ă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ntru IMM cu istoric de func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ţ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on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8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ntru IMM nou 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î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fiin</a:t>
                      </a:r>
                      <a:r>
                        <a:rPr b="0" lang="ro-RO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ţ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start-u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0680"/>
            <a:ext cx="8229600" cy="41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200" spc="-1" strike="noStrike">
                <a:solidFill>
                  <a:srgbClr val="000000"/>
                </a:solidFill>
                <a:latin typeface="Lucida Sans Unicode"/>
              </a:rPr>
              <a:t>Valoarea maxim</a:t>
            </a:r>
            <a:r>
              <a:rPr b="1" i="1" lang="en-US" sz="2200" spc="-1" strike="noStrike">
                <a:solidFill>
                  <a:srgbClr val="000000"/>
                </a:solidFill>
                <a:latin typeface="Lucida Sans Unicode"/>
              </a:rPr>
              <a:t> contragarantat</a:t>
            </a:r>
            <a:r>
              <a:rPr b="1" i="1" lang="ro-RO" sz="2200" spc="-1" strike="noStrike">
                <a:solidFill>
                  <a:srgbClr val="000000"/>
                </a:solidFill>
                <a:latin typeface="Lucida Sans Unicode"/>
              </a:rPr>
              <a:t>ă </a:t>
            </a:r>
            <a:r>
              <a:rPr b="1" i="1" lang="en-US" sz="2100" spc="-1" strike="noStrike">
                <a:solidFill>
                  <a:srgbClr val="000000"/>
                </a:solidFill>
                <a:latin typeface="Lucida Sans Unicode"/>
              </a:rPr>
              <a:t>a expunerii pe </a:t>
            </a:r>
            <a:r>
              <a:rPr b="1" i="1" lang="ro-RO" sz="2100" spc="-1" strike="noStrike">
                <a:solidFill>
                  <a:srgbClr val="000000"/>
                </a:solidFill>
                <a:latin typeface="Lucida Sans Unicode"/>
              </a:rPr>
              <a:t>un beneficiar</a:t>
            </a:r>
            <a:r>
              <a:rPr b="1" i="1" lang="en-US" sz="22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1.200.000 EUR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, respectiv 600.000 EUR pentru IMM care activează în sectorul transportului rutie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Lucida Sans Unicode"/>
              </a:rPr>
              <a:t>Prima de contragarantare 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reprezintă</a:t>
            </a:r>
            <a:r>
              <a:rPr b="1" i="1" lang="ro-RO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emunera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a  FRC revizuibil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anual**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î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n func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e de rata efectiv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de pl</a:t>
            </a:r>
            <a:r>
              <a:rPr b="0" lang="ro-RO" sz="2200" spc="-1" strike="noStrike">
                <a:solidFill>
                  <a:srgbClr val="000000"/>
                </a:solidFill>
                <a:latin typeface="Lucida Sans Unicode"/>
              </a:rPr>
              <a:t>ăţ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i efectuate de FRC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Pentru toate sectoarele de activitate cu excepţia producţiei primare de produse agricole, armament, alcool şi tutun, pescuit şi acvacultură, carbune, siderurgie, construcţii navale, fibre sintetice, jocuri de noroc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** Pentru anul 2011 procentul primei de contragarantare este de 0,37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42920" y="1481040"/>
            <a:ext cx="8786880" cy="401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464646"/>
                </a:solidFill>
                <a:latin typeface="Lucida Sans Unicode"/>
              </a:rPr>
              <a:t>Cine este eligibil pentru contragarantare</a:t>
            </a:r>
            <a:r>
              <a:rPr b="1" lang="en-US" sz="2600" spc="-1" strike="noStrike">
                <a:solidFill>
                  <a:srgbClr val="464646"/>
                </a:solidFill>
                <a:latin typeface="Lucida Sans Unicode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Întreprinderi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le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 care, în mod </a:t>
            </a:r>
            <a:r>
              <a:rPr b="1" lang="ro-RO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cumulativ</a:t>
            </a:r>
            <a:r>
              <a:rPr b="0" lang="ro-RO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Sunt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IMM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, conform legii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sunt „</a:t>
            </a:r>
            <a:r>
              <a:rPr b="1" i="1" lang="ro-RO" sz="1300" spc="-1" strike="noStrike">
                <a:solidFill>
                  <a:srgbClr val="000000"/>
                </a:solidFill>
                <a:latin typeface="Lucida Sans Unicode"/>
              </a:rPr>
              <a:t>în dificultate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, în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executare silită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închidere operaţională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dizolvare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lichidare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sau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administrare specială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au beneficiat de un </a:t>
            </a:r>
            <a:r>
              <a:rPr b="0" i="1" lang="ro-RO" sz="1300" spc="-1" strike="noStrike">
                <a:solidFill>
                  <a:srgbClr val="000000"/>
                </a:solidFill>
                <a:latin typeface="Lucida Sans Unicode"/>
              </a:rPr>
              <a:t>ajutor de stat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declarat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ilegal şi incompatibil, încă nerestitui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Suma </a:t>
            </a:r>
            <a:r>
              <a:rPr b="0" i="1" lang="ro-RO" sz="1300" spc="-1" strike="noStrike">
                <a:solidFill>
                  <a:srgbClr val="000000"/>
                </a:solidFill>
                <a:latin typeface="Lucida Sans Unicode"/>
              </a:rPr>
              <a:t>ajutoarelor de minimis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de care a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u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beneficiat într-o perioadă de </a:t>
            </a:r>
            <a:r>
              <a:rPr b="0" i="1" lang="ro-RO" sz="1300" spc="-1" strike="noStrike">
                <a:solidFill>
                  <a:srgbClr val="000000"/>
                </a:solidFill>
                <a:latin typeface="Lucida Sans Unicode"/>
              </a:rPr>
              <a:t>3 ani fiscali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depăşeşte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200.000 EUR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, respectiv 100.000 EUR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pentru IMM 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cu activitate de transport rutier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 activează </a:t>
            </a:r>
            <a:r>
              <a:rPr b="1" lang="ro-RO" sz="1300" spc="-1" strike="noStrike">
                <a:solidFill>
                  <a:srgbClr val="000000"/>
                </a:solidFill>
                <a:latin typeface="Lucida Sans Unicode"/>
              </a:rPr>
              <a:t>în anumite sectoare de activitate</a:t>
            </a:r>
            <a:r>
              <a:rPr b="0" lang="ro-RO" sz="1300" spc="-1" strike="noStrike">
                <a:solidFill>
                  <a:srgbClr val="000000"/>
                </a:solidFill>
                <a:latin typeface="Lucida Sans Unicode"/>
              </a:rPr>
              <a:t>: producţie primară de produse agricole, armament, alcool şi tutun, pescuit şi acvacultură, carbune, siderurgie, construcţii navale, fibre sintetice, jocuri de noroc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0" lang="ro-RO" sz="1000" spc="-1" strike="noStrike">
                <a:solidFill>
                  <a:srgbClr val="000000"/>
                </a:solidFill>
                <a:latin typeface="Lucida Sans Unicode"/>
              </a:rPr>
              <a:t> Ex. – În cazul unei întreprinderi cu răspundere limitată, atunci când se constată pierderea a mai mult de jumătate din capitalul social al acesteia, mai mult de un sfert din acest capital fiind pierdut în ultimele 12 luni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214200" y="1480680"/>
            <a:ext cx="8715600" cy="423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464646"/>
                </a:solidFill>
                <a:latin typeface="Lucida Sans Unicode"/>
              </a:rPr>
              <a:t>Cadrul normativ de referin</a:t>
            </a:r>
            <a:r>
              <a:rPr b="1" lang="ro-RO" sz="2300" spc="-1" strike="noStrike">
                <a:solidFill>
                  <a:srgbClr val="464646"/>
                </a:solidFill>
                <a:latin typeface="Lucida Sans Unicode"/>
              </a:rPr>
              <a:t>ţă al</a:t>
            </a:r>
            <a:r>
              <a:rPr b="1" lang="en-US" sz="2300" spc="-1" strike="noStrike">
                <a:solidFill>
                  <a:srgbClr val="464646"/>
                </a:solidFill>
                <a:latin typeface="Lucida Sans Unicode"/>
              </a:rPr>
              <a:t> FR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ctr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Norma nr.</a:t>
            </a: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/2010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privind contragarantarea garanţiil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ferente </a:t>
            </a: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finanţărilor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contractate de  IMM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de la bănci ş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instituţii financiare nebanca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ctr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Norma nr.</a:t>
            </a: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/2010</a:t>
            </a: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privind contragarantarea garanţiilo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Lucida Sans Unicode"/>
              </a:rPr>
              <a:t>acordate pentru </a:t>
            </a: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sprijinirea înfiinţării şi dezvoltării d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Lucida Sans Unicode"/>
              </a:rPr>
              <a:t>IMM (start-up</a:t>
            </a:r>
            <a:r>
              <a:rPr b="1" lang="ro-RO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Ajutorul de minimis, îl reprezintă </a:t>
            </a:r>
            <a:r>
              <a:rPr b="1" i="1" lang="ro-RO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diferenţa</a:t>
            </a:r>
            <a:r>
              <a:rPr b="0" i="1" lang="ro-RO" sz="1800" spc="-1" strike="noStrike">
                <a:solidFill>
                  <a:srgbClr val="000000"/>
                </a:solidFill>
                <a:latin typeface="Lucida Sans Unicode"/>
              </a:rPr>
              <a:t> dintre comisionul de garantare pe care IMM îl plăteşte în condiţiile pieţei şi comisionul de garantare redus pe care îl plăteşte fondului de garantare, ca urmare a contragarantării garanţiei de către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FRC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3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64646"/>
                </a:solidFill>
                <a:latin typeface="Lucida Sans Unicode"/>
              </a:rPr>
              <a:t>Efectul direct al contragarant</a:t>
            </a:r>
            <a:r>
              <a:rPr b="1" lang="ro-RO" sz="2100" spc="-1" strike="noStrike">
                <a:solidFill>
                  <a:srgbClr val="464646"/>
                </a:solidFill>
                <a:latin typeface="Lucida Sans Unicode"/>
              </a:rPr>
              <a:t>ă</a:t>
            </a:r>
            <a:r>
              <a:rPr b="1" lang="en-US" sz="2100" spc="-1" strike="noStrike">
                <a:solidFill>
                  <a:srgbClr val="464646"/>
                </a:solidFill>
                <a:latin typeface="Lucida Sans Unicode"/>
              </a:rPr>
              <a:t>rii FR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IMM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beneficiar al unei garan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i contragarantate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b</a:t>
            </a:r>
            <a:r>
              <a:rPr b="1" lang="ro-RO" sz="1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ine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 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ajutor de minimis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ub forma unei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reduceri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din valoarea comisionului de garantare,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cuprinsă între </a:t>
            </a:r>
            <a:r>
              <a:rPr b="1" lang="ro-RO" sz="1800" spc="-1" strike="noStrike">
                <a:solidFill>
                  <a:srgbClr val="000000"/>
                </a:solidFill>
                <a:latin typeface="Lucida Sans Unicode"/>
              </a:rPr>
              <a:t>35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şi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Lucida Sans Unicode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puncte procentual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MM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NU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plate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e niciun comision suplimentar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î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procesul de acordare a garan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ei contragaranta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MM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BENEFICIAZ</a:t>
            </a:r>
            <a:r>
              <a:rPr b="1" lang="ro-RO" sz="18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de acela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 timp de r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puns la analiza 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ş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 aprobarea garan</a:t>
            </a:r>
            <a:r>
              <a:rPr b="0" lang="ro-RO" sz="1800" spc="-1" strike="noStrike">
                <a:solidFill>
                  <a:srgbClr val="000000"/>
                </a:solidFill>
                <a:latin typeface="Lucida Sans Unicode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ilor contragarantat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La un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credit de 1 mil. Euro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garantat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în proporţie de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80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%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de un fond de garantare, cu o garanţie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contragarantată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 în cuantum de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70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%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vi-VN" sz="1600" spc="-1" strike="noStrike">
                <a:solidFill>
                  <a:srgbClr val="000000"/>
                </a:solidFill>
                <a:latin typeface="Lucida Sans Unicode"/>
              </a:rPr>
              <a:t>valoarea</a:t>
            </a:r>
            <a:r>
              <a:rPr b="0" lang="vi-VN" sz="1600" spc="-1" strike="noStrike">
                <a:solidFill>
                  <a:srgbClr val="000000"/>
                </a:solidFill>
                <a:latin typeface="Lucida Sans Unicode"/>
              </a:rPr>
              <a:t> ajutorului de minimis de care beneficiază </a:t>
            </a:r>
            <a:r>
              <a:rPr b="0" lang="ro-RO" sz="1600" spc="-1" strike="noStrike">
                <a:solidFill>
                  <a:srgbClr val="000000"/>
                </a:solidFill>
                <a:latin typeface="Lucida Sans Unicode"/>
              </a:rPr>
              <a:t>IMM solicitant al creditului este de aproximativ 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12.300 </a:t>
            </a:r>
            <a:r>
              <a:rPr b="1" lang="vi-VN" sz="16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1" lang="ro-RO" sz="1600" spc="-1" strike="noStrike">
                <a:solidFill>
                  <a:srgbClr val="000000"/>
                </a:solidFill>
                <a:latin typeface="Lucida Sans Unicode"/>
              </a:rPr>
              <a:t>ur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Picture 3" descr="C:\Users\Semaca\Desktop\serba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09:46:46Z</dcterms:created>
  <dc:creator>bogdan.visan</dc:creator>
  <dc:description/>
  <dc:language>en-US</dc:language>
  <cp:lastModifiedBy>ioana</cp:lastModifiedBy>
  <dcterms:modified xsi:type="dcterms:W3CDTF">2011-02-15T12:05:33Z</dcterms:modified>
  <cp:revision>66</cp:revision>
  <dc:subject/>
  <dc:title>  </dc:title>
</cp:coreProperties>
</file>